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521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521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82200"/>
            <a:ext cx="4502160" cy="3373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57520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57520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6BD2-C04F-419C-A7C1-5E738E83391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57556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46E7-53B6-4B72-ADF4-F9878E0F070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79360" y="682560"/>
            <a:ext cx="4499280" cy="33735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57556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E84D-4E02-42B3-A945-FD09CF354A0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79360" y="682560"/>
            <a:ext cx="4499280" cy="33735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8585-5A99-43AA-9A88-12DA93353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2CC1-AC83-4506-9910-D3A7D753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AFAC-59CF-4086-8860-F8B6AC00D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ACE8-040D-4DBF-9591-88038578C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5CD9-4544-4BAF-9161-CCD41E51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0E17-8BD8-4D23-A905-354F8B45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FC4A-AE02-469E-B1E3-00B27834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B7E0-1A59-4B23-986E-1FD0DCC0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0163-07E3-497B-AE89-1CBD36E2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8EF5-6AD4-4EAA-8B73-4BBA8EE4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9C7A-9A6F-4718-8D08-4E6DC4C1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E0E5-8908-4220-A42A-25962D41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469F-C233-456E-8B1B-D7DB35C98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physicsclassroom.com/Class/energy/U5L2a.html" TargetMode="External"/><Relationship Id="rId2" Type="http://schemas.openxmlformats.org/officeDocument/2006/relationships/hyperlink" Target="http://www.glenbrook.k12.il.us/gbssci/phys/Class/energy/u5l2b.html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ebphysics.davidson.edu/mazur/ch9/ex9_3.html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ideafinder.com/history/inventors/watt.htm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walter-fendt.de/ph11e/inclplane.htm" TargetMode="External"/><Relationship Id="rId2" Type="http://schemas.openxmlformats.org/officeDocument/2006/relationships/hyperlink" Target="http://www.enchantedlearning.com/physics/machines/Levers.shtml" TargetMode="External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eocities.com/bioelectrochemistry/joule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80880" y="20520"/>
            <a:ext cx="8359920" cy="6761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Object 3"/>
          <p:cNvGraphicFramePr/>
          <p:nvPr/>
        </p:nvGraphicFramePr>
        <p:xfrm>
          <a:off x="336600" y="324000"/>
          <a:ext cx="8805960" cy="58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6600" y="324000"/>
                    <a:ext cx="8805960" cy="5867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8100000" blurRad="0" rotWithShape="0">
                      <a:srgbClr val="969696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2188800" y="3886200"/>
            <a:ext cx="472824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Learn more about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ork-Energy Theor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ere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here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-114840" y="457200"/>
            <a:ext cx="9281880" cy="25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 net force c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n object to change its KE 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 net force causes an object to accelerat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nd acceleration means a change in velocit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nd if velocity changes, KE chan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2"/>
          <p:cNvSpPr/>
          <p:nvPr/>
        </p:nvSpPr>
        <p:spPr>
          <a:xfrm flipV="1">
            <a:off x="952560" y="114120"/>
            <a:ext cx="7313400" cy="1371600"/>
          </a:xfrm>
          <a:prstGeom prst="pie">
            <a:avLst/>
          </a:prstGeom>
          <a:solidFill>
            <a:srgbClr val="00ff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2170800" y="166680"/>
            <a:ext cx="4892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33"/>
                </a:solidFill>
                <a:latin typeface="Arial Black"/>
              </a:rPr>
              <a:t>Potential Energ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992880" y="836640"/>
            <a:ext cx="7241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energy of position or cond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304640" y="1751040"/>
            <a:ext cx="6553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gravitational potential ener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2266560" y="2408400"/>
            <a:ext cx="468216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Comic Sans MS"/>
              </a:rPr>
              <a:t>PE</a:t>
            </a:r>
            <a:r>
              <a:rPr b="1" lang="en-US" sz="7200" spc="-1" strike="noStrike" baseline="-25000">
                <a:solidFill>
                  <a:srgbClr val="0000ff"/>
                </a:solidFill>
                <a:latin typeface="Comic Sans MS"/>
              </a:rPr>
              <a:t>g</a:t>
            </a:r>
            <a:r>
              <a:rPr b="1" lang="en-US" sz="7200" spc="-1" strike="noStrike">
                <a:solidFill>
                  <a:srgbClr val="0000ff"/>
                </a:solidFill>
                <a:latin typeface="Comic Sans MS"/>
              </a:rPr>
              <a:t> = mgh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459000" y="3733920"/>
            <a:ext cx="829584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- mass of object in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 k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- acceleration of gravity in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m/s</a:t>
            </a:r>
            <a:r>
              <a:rPr b="1" lang="en-US" sz="3600" spc="-1" strike="noStrike" baseline="30000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 height of object, in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rom some arbitrary reference poi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E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– gravitational potential energy in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2"/>
          <p:cNvSpPr/>
          <p:nvPr/>
        </p:nvSpPr>
        <p:spPr>
          <a:xfrm flipV="1">
            <a:off x="952560" y="114120"/>
            <a:ext cx="7313400" cy="1371600"/>
          </a:xfrm>
          <a:prstGeom prst="pie">
            <a:avLst/>
          </a:prstGeom>
          <a:solidFill>
            <a:srgbClr val="00ff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2170800" y="90360"/>
            <a:ext cx="4892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33"/>
                </a:solidFill>
                <a:latin typeface="Arial Black"/>
              </a:rPr>
              <a:t>Potential Energ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992880" y="836640"/>
            <a:ext cx="7241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energy of position or cond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085840" y="1676520"/>
            <a:ext cx="5194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elastic potential ener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2158200" y="2438280"/>
            <a:ext cx="484668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Comic Sans MS"/>
              </a:rPr>
              <a:t>PE</a:t>
            </a:r>
            <a:r>
              <a:rPr b="1" lang="en-US" sz="7200" spc="-1" strike="noStrike" baseline="-25000">
                <a:solidFill>
                  <a:srgbClr val="0000ff"/>
                </a:solidFill>
                <a:latin typeface="Comic Sans MS"/>
              </a:rPr>
              <a:t>e</a:t>
            </a:r>
            <a:r>
              <a:rPr b="1" lang="en-US" sz="7200" spc="-1" strike="noStrike">
                <a:solidFill>
                  <a:srgbClr val="0000ff"/>
                </a:solidFill>
                <a:latin typeface="Comic Sans MS"/>
              </a:rPr>
              <a:t> = ½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US" sz="7200" spc="-1" strike="noStrike">
                <a:solidFill>
                  <a:srgbClr val="0000ff"/>
                </a:solidFill>
                <a:latin typeface="Comic Sans MS"/>
              </a:rPr>
              <a:t>kx</a:t>
            </a:r>
            <a:r>
              <a:rPr b="1" lang="en-US" sz="72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914400" y="3886200"/>
            <a:ext cx="7257960" cy="18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– elastic constant in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N/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- elongation or compression in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E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e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– elastic potential energy in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833760" y="6095880"/>
            <a:ext cx="76255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er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to investigate elastic consta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304920"/>
            <a:ext cx="9142560" cy="2133360"/>
          </a:xfrm>
          <a:prstGeom prst="rect">
            <a:avLst/>
          </a:prstGeom>
          <a:gradFill rotWithShape="0">
            <a:gsLst>
              <a:gs pos="0">
                <a:srgbClr val="008e6b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554760" y="455760"/>
            <a:ext cx="78933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Law of Conservation of 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4680" y="1274760"/>
            <a:ext cx="923148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cc"/>
                </a:solidFill>
                <a:latin typeface="Comic Sans MS"/>
              </a:rPr>
              <a:t>“</a:t>
            </a:r>
            <a:r>
              <a:rPr b="1" lang="en-US" sz="3100" spc="-1" strike="noStrike">
                <a:solidFill>
                  <a:srgbClr val="ff00cc"/>
                </a:solidFill>
                <a:latin typeface="Comic Sans MS"/>
              </a:rPr>
              <a:t>Energy can be neither created nor destroyed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cc"/>
                </a:solidFill>
                <a:latin typeface="Comic Sans MS"/>
              </a:rPr>
              <a:t>It may only change forms.”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1440" y="2970360"/>
            <a:ext cx="9141120" cy="1189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l types of energy before the even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ll types of energy after the ev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242280" y="4716360"/>
            <a:ext cx="8699400" cy="1919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xampl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 dropped object loses gravitational PE as it gains K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 block slides across the floor and comes to a stop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 compressed spring shoots a ball into the ai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609480" y="380880"/>
            <a:ext cx="8001000" cy="2438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910800" y="198360"/>
            <a:ext cx="7328520" cy="25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ff33"/>
                </a:solidFill>
                <a:latin typeface="Arial Black"/>
              </a:rPr>
              <a:t>Power,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y definition,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ime rat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of doing </a:t>
            </a: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work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r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ime rate transfer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of </a:t>
            </a:r>
            <a:r>
              <a:rPr b="1" lang="en-US" sz="3200" spc="-1" strike="noStrike">
                <a:solidFill>
                  <a:srgbClr val="ff66ff"/>
                </a:solidFill>
                <a:latin typeface="Comic Sans MS"/>
              </a:rPr>
              <a:t>energy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2184480" y="3632040"/>
            <a:ext cx="4775040" cy="1879920"/>
          </a:xfrm>
          <a:prstGeom prst="rect">
            <a:avLst/>
          </a:prstGeom>
          <a:solidFill>
            <a:srgbClr val="00ffff"/>
          </a:solidFill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Comic Sans MS"/>
              </a:rPr>
              <a:t>P</a:t>
            </a: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8000" spc="-1" strike="noStrike">
                <a:solidFill>
                  <a:srgbClr val="ff0066"/>
                </a:solidFill>
                <a:latin typeface="Comic Sans MS"/>
              </a:rPr>
              <a:t>=</a:t>
            </a: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8000" spc="-1" strike="noStrike">
                <a:solidFill>
                  <a:srgbClr val="ff0066"/>
                </a:solidFill>
                <a:latin typeface="Comic Sans MS"/>
              </a:rPr>
              <a:t>W</a:t>
            </a: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8000" spc="-1" strike="noStrike">
                <a:solidFill>
                  <a:srgbClr val="ff0066"/>
                </a:solidFill>
                <a:latin typeface="Comic Sans MS"/>
              </a:rPr>
              <a:t>/</a:t>
            </a: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8000" spc="-1" strike="noStrike">
                <a:solidFill>
                  <a:srgbClr val="ff0066"/>
                </a:solidFill>
                <a:latin typeface="Comic Sans MS"/>
              </a:rPr>
              <a:t>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875160" y="5775480"/>
            <a:ext cx="73825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Power is a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Arial Black"/>
              </a:rPr>
              <a:t>scalar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quantity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682200" y="441360"/>
            <a:ext cx="5128920" cy="27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SI unit of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Wat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amed in honor 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Arial Black"/>
                <a:hlinkClick r:id="rId1"/>
              </a:rPr>
              <a:t>James Wat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558720" y="3554280"/>
            <a:ext cx="8102520" cy="3148200"/>
          </a:xfrm>
          <a:prstGeom prst="octagon">
            <a:avLst>
              <a:gd name="adj" fmla="val 24394"/>
            </a:avLst>
          </a:prstGeom>
          <a:solidFill>
            <a:srgbClr val="0000ff"/>
          </a:solidFill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898920" y="3611520"/>
            <a:ext cx="7431480" cy="31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One Watt, W, of po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is the power achiev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when </a:t>
            </a:r>
            <a:r>
              <a:rPr b="1" lang="en-US" sz="4000" spc="-1" strike="noStrike">
                <a:solidFill>
                  <a:srgbClr val="66ff33"/>
                </a:solidFill>
                <a:latin typeface="Comic Sans MS"/>
              </a:rPr>
              <a:t>1.0 J of work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is done 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1.0 J of energy is transfer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in a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time of 1.0 s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7" descr="SCwattP"/>
          <p:cNvPicPr/>
          <p:nvPr/>
        </p:nvPicPr>
        <p:blipFill>
          <a:blip r:embed="rId2"/>
          <a:stretch/>
        </p:blipFill>
        <p:spPr>
          <a:xfrm>
            <a:off x="6629400" y="304920"/>
            <a:ext cx="217980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457200" y="216000"/>
            <a:ext cx="8381880" cy="66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Arial Black"/>
              </a:rPr>
              <a:t>Simple Mach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a device that is used to manipulate the amou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and/or direction of force when work is don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A common misconception is that machines are used to do a task with less work than would be needed to do the task without the machine.  They do not!  In fact (mainly because of friction), you actually do more work with a machine than without it (for the same task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The major benefit of a machine is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the work can be done with less applied force, but at the expense of the distance through which the force must be appli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0" y="279360"/>
            <a:ext cx="914400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 Black"/>
              </a:rPr>
              <a:t>Work = Force x D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arge force</a:t>
            </a: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  small distance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 small force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arge distanc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or example, 1000 J of work is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o lift 1000 N onto a table 1.0 m hig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f the object were pushed up a 4.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amp (inclined plane), a minimum of 250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f force would be needed (250 N x 4.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= 1000 J).  In reality, friction betw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object and the ramp would make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necessary force greater than 250 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76320" y="392040"/>
            <a:ext cx="906768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If a 10 m ramp were used, a minim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of 100 N of force would be n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The greater the distance,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smaller the necessary for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 Black"/>
              </a:rPr>
              <a:t>Efficiency of a Mach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the ratio of useful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output to useful work inpu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It is impossible to get as much “useful”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or energy out of a machine as you put into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152280" y="228600"/>
            <a:ext cx="8915400" cy="50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onsider the lever, pulley, and inclined plane as examples of simple machi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Inclined plan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: decr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ecessary force bec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f an increase in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Lever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: used to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orce by increasing distan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hanges direction of force (lin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ulley: used to decrease force by increasing distance;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ay change direction of force (lin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6" descr="The Six Simple Machines"/>
          <p:cNvPicPr/>
          <p:nvPr/>
        </p:nvPicPr>
        <p:blipFill>
          <a:blip r:embed="rId3"/>
          <a:stretch/>
        </p:blipFill>
        <p:spPr>
          <a:xfrm>
            <a:off x="5257800" y="914400"/>
            <a:ext cx="3638520" cy="21747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3147840" y="5105520"/>
            <a:ext cx="355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Comic Sans MS"/>
              </a:rPr>
              <a:t>Click here to per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Comic Sans MS"/>
              </a:rPr>
              <a:t>an interesting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Comic Sans MS"/>
              </a:rPr>
              <a:t>on simple machi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4"/>
          <a:stretch/>
        </p:blipFill>
        <p:spPr>
          <a:xfrm>
            <a:off x="304920" y="4343400"/>
            <a:ext cx="2530440" cy="23493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76320"/>
            <a:ext cx="9142560" cy="67802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824400" y="860400"/>
            <a:ext cx="759024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mic Sans MS"/>
              </a:rPr>
              <a:t>Work is only done by a force on a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mic Sans MS"/>
              </a:rPr>
              <a:t>object if the force causes the objec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mic Sans MS"/>
              </a:rPr>
              <a:t>to move in the direction of the force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076400" y="3679920"/>
            <a:ext cx="705996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mic Sans MS"/>
              </a:rPr>
              <a:t>Objects that are at rest ma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mic Sans MS"/>
              </a:rPr>
              <a:t>have many forces acting on them,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mic Sans MS"/>
              </a:rPr>
              <a:t>but no work is don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mic Sans MS"/>
              </a:rPr>
              <a:t>if there is no movement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695880" y="228600"/>
            <a:ext cx="782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lick here to explore energy, work, and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ork-Energy Theorem in more dep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1135080" y="1447920"/>
            <a:ext cx="6865920" cy="5113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724320" y="46080"/>
            <a:ext cx="770616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ff33"/>
                </a:solidFill>
                <a:latin typeface="Arial Black"/>
              </a:rPr>
              <a:t>Work,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y definition,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product of the </a:t>
            </a: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forc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exerted 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n object and the </a:t>
            </a:r>
            <a:r>
              <a:rPr b="1" lang="en-US" sz="3200" spc="-1" strike="noStrike">
                <a:solidFill>
                  <a:srgbClr val="ff66ff"/>
                </a:solidFill>
                <a:latin typeface="Comic Sans MS"/>
              </a:rPr>
              <a:t>distanc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the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oves in the direction of the for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2184480" y="3784680"/>
            <a:ext cx="4775040" cy="1879560"/>
          </a:xfrm>
          <a:prstGeom prst="rect">
            <a:avLst/>
          </a:prstGeom>
          <a:solidFill>
            <a:srgbClr val="00ffff"/>
          </a:solidFill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Comic Sans MS"/>
              </a:rPr>
              <a:t>W</a:t>
            </a: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8000" spc="-1" strike="noStrike">
                <a:solidFill>
                  <a:srgbClr val="ff0066"/>
                </a:solidFill>
                <a:latin typeface="Comic Sans MS"/>
              </a:rPr>
              <a:t>=</a:t>
            </a: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8000" spc="-1" strike="noStrike">
                <a:solidFill>
                  <a:srgbClr val="ff0066"/>
                </a:solidFill>
                <a:latin typeface="Comic Sans MS"/>
              </a:rPr>
              <a:t>F·d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667520" y="5897520"/>
            <a:ext cx="56073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k is a </a:t>
            </a: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scalar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quant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914400" y="487440"/>
            <a:ext cx="4663800" cy="25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SI unit of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Joul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d in honor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Arial Black"/>
                <a:hlinkClick r:id="rId1"/>
              </a:rPr>
              <a:t>James Prescott Joul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6637320" y="66600"/>
            <a:ext cx="2278080" cy="33624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4"/>
          <p:cNvSpPr/>
          <p:nvPr/>
        </p:nvSpPr>
        <p:spPr>
          <a:xfrm>
            <a:off x="406440" y="3862440"/>
            <a:ext cx="8407440" cy="2616120"/>
          </a:xfrm>
          <a:prstGeom prst="octagon">
            <a:avLst>
              <a:gd name="adj" fmla="val 29292"/>
            </a:avLst>
          </a:prstGeom>
          <a:solidFill>
            <a:srgbClr val="0000ff"/>
          </a:solidFill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6553080" y="76320"/>
            <a:ext cx="2438640" cy="304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972720" y="3916440"/>
            <a:ext cx="727164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One Joule, J, of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is the work done wh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1.0 N of force is appli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through a distance of 1.0 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6553080" y="3200400"/>
            <a:ext cx="2438640" cy="380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33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990720" y="-38160"/>
            <a:ext cx="815328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"/>
          <p:cNvSpPr/>
          <p:nvPr/>
        </p:nvSpPr>
        <p:spPr>
          <a:xfrm>
            <a:off x="-122400" y="122400"/>
            <a:ext cx="663768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Graphically, work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the area under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“</a:t>
            </a: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Force vs. Displacement” 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4"/>
          <p:cNvSpPr/>
          <p:nvPr/>
        </p:nvSpPr>
        <p:spPr>
          <a:xfrm>
            <a:off x="2743200" y="2362320"/>
            <a:ext cx="0" cy="26668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5"/>
          <p:cNvSpPr/>
          <p:nvPr/>
        </p:nvSpPr>
        <p:spPr>
          <a:xfrm>
            <a:off x="2209680" y="4648320"/>
            <a:ext cx="41148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3109320" y="4738680"/>
            <a:ext cx="2512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placement,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Object 7"/>
          <p:cNvGraphicFramePr/>
          <p:nvPr/>
        </p:nvGraphicFramePr>
        <p:xfrm>
          <a:off x="1447920" y="2687760"/>
          <a:ext cx="1904760" cy="1726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2687760"/>
                    <a:ext cx="1904760" cy="17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Line 8"/>
          <p:cNvSpPr/>
          <p:nvPr/>
        </p:nvSpPr>
        <p:spPr>
          <a:xfrm>
            <a:off x="2743200" y="3249720"/>
            <a:ext cx="28954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2766960" y="3276720"/>
            <a:ext cx="2133720" cy="1333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cc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152280" y="2895480"/>
            <a:ext cx="8839440" cy="38102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618480" y="198360"/>
            <a:ext cx="8057880" cy="26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f the force and displacement are </a:t>
            </a:r>
            <a:r>
              <a:rPr b="1" lang="en-US" sz="3200" spc="-1" strike="noStrike">
                <a:solidFill>
                  <a:srgbClr val="ff0033"/>
                </a:solidFill>
                <a:latin typeface="Comic Sans MS"/>
              </a:rPr>
              <a:t>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Comic Sans MS"/>
              </a:rPr>
              <a:t>in the exact same direct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work = Fd(cos</a:t>
            </a:r>
            <a:r>
              <a:rPr b="1" lang="en-US" sz="4000" spc="-1" strike="noStrike">
                <a:solidFill>
                  <a:srgbClr val="0000ff"/>
                </a:solidFill>
                <a:latin typeface="Symbol"/>
                <a:ea typeface="Symbol"/>
              </a:rPr>
              <a:t>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)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ere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the angle between the 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rection and displacement dir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4"/>
          <p:cNvSpPr/>
          <p:nvPr/>
        </p:nvSpPr>
        <p:spPr>
          <a:xfrm>
            <a:off x="1447920" y="4572000"/>
            <a:ext cx="63244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1536840" y="3851280"/>
            <a:ext cx="1269720" cy="660240"/>
          </a:xfrm>
          <a:prstGeom prst="rect">
            <a:avLst/>
          </a:prstGeom>
          <a:solidFill>
            <a:srgbClr val="ff00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6"/>
          <p:cNvSpPr/>
          <p:nvPr/>
        </p:nvSpPr>
        <p:spPr>
          <a:xfrm flipV="1">
            <a:off x="2354400" y="3274560"/>
            <a:ext cx="1311120" cy="917640"/>
          </a:xfrm>
          <a:prstGeom prst="line">
            <a:avLst/>
          </a:prstGeom>
          <a:ln w="50760">
            <a:solidFill>
              <a:srgbClr val="ff33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7"/>
          <p:cNvSpPr/>
          <p:nvPr/>
        </p:nvSpPr>
        <p:spPr>
          <a:xfrm flipV="1">
            <a:off x="2386080" y="4192560"/>
            <a:ext cx="5386320" cy="223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3565440" y="2909880"/>
            <a:ext cx="1393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 =40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4708800" y="3747960"/>
            <a:ext cx="1591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 = 3.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577080" y="4662360"/>
            <a:ext cx="745308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work done in moving the block 3.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 the right by the 40 N force at an ang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f 35  to the horizontal is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11"/>
              <p:cNvSpPr txBox="1"/>
              <p:nvPr/>
            </p:nvSpPr>
            <p:spPr>
              <a:xfrm>
                <a:off x="2916360" y="3809880"/>
                <a:ext cx="58572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12"/>
              <p:cNvSpPr txBox="1"/>
              <p:nvPr/>
            </p:nvSpPr>
            <p:spPr>
              <a:xfrm>
                <a:off x="2571840" y="5562720"/>
                <a:ext cx="201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Rectangle 13"/>
          <p:cNvSpPr/>
          <p:nvPr/>
        </p:nvSpPr>
        <p:spPr>
          <a:xfrm>
            <a:off x="235080" y="6018120"/>
            <a:ext cx="8659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W = Fd(cos </a:t>
            </a:r>
            <a:r>
              <a:rPr b="1" lang="en-US" sz="3600" spc="-1" strike="noStrike">
                <a:solidFill>
                  <a:srgbClr val="ff9900"/>
                </a:solidFill>
                <a:latin typeface="Symbol"/>
                <a:ea typeface="Symbol"/>
              </a:rPr>
              <a:t>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) = (40N)(3.0 m)(cos 35) = 98 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3147120" y="30240"/>
            <a:ext cx="2682720" cy="100692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ff"/>
                </a:solidFill>
                <a:latin typeface="Arial Black"/>
              </a:rPr>
              <a:t>Energ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941040" y="1065240"/>
            <a:ext cx="7433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ability (capacity) to do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365040" y="2095560"/>
            <a:ext cx="8458200" cy="1828800"/>
          </a:xfrm>
          <a:prstGeom prst="hexagon">
            <a:avLst>
              <a:gd name="adj" fmla="val 89224"/>
              <a:gd name="vf" fmla="val 115470"/>
            </a:avLst>
          </a:prstGeom>
          <a:solidFill>
            <a:srgbClr val="009900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784800" y="2131920"/>
            <a:ext cx="767088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Energy comes in many fo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mechanical, electrical , magnetic, solar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thermal, chemical, etc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864720" y="4602240"/>
            <a:ext cx="7576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The SI unit of energy is the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Joule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1252800" y="5668920"/>
            <a:ext cx="6801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ergy, like work, is a </a:t>
            </a:r>
            <a:r>
              <a:rPr b="1" lang="en-US" sz="4000" spc="-1" strike="noStrike">
                <a:solidFill>
                  <a:srgbClr val="66ff33"/>
                </a:solidFill>
                <a:latin typeface="Comic Sans MS"/>
              </a:rPr>
              <a:t>scalar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2"/>
          <p:cNvSpPr/>
          <p:nvPr/>
        </p:nvSpPr>
        <p:spPr>
          <a:xfrm flipH="1" flipV="1" rot="10800000">
            <a:off x="1668600" y="189360"/>
            <a:ext cx="5867280" cy="1600200"/>
          </a:xfrm>
          <a:prstGeom prst="pie">
            <a:avLst/>
          </a:prstGeom>
          <a:solidFill>
            <a:srgbClr val="ff0033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484000" y="166680"/>
            <a:ext cx="42649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Black"/>
              </a:rPr>
              <a:t>Kinetic Energ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2095920" y="974880"/>
            <a:ext cx="5013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energy of 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882800" y="1874880"/>
            <a:ext cx="5538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l moving objects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mass have kinetic ener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1473120" y="2997360"/>
            <a:ext cx="6273720" cy="1320480"/>
          </a:xfrm>
          <a:prstGeom prst="rect">
            <a:avLst/>
          </a:prstGeom>
          <a:solidFill>
            <a:srgbClr val="33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2005560" y="3160800"/>
            <a:ext cx="522792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KE = 1/2 mv</a:t>
            </a:r>
            <a:r>
              <a:rPr b="1" lang="en-US" sz="66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1459800" y="4525920"/>
            <a:ext cx="631944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- mass of the object in </a:t>
            </a:r>
            <a:r>
              <a:rPr b="1" lang="en-US" sz="4000" spc="-1" strike="noStrike">
                <a:solidFill>
                  <a:srgbClr val="ff99ff"/>
                </a:solidFill>
                <a:latin typeface="Times New Roman"/>
              </a:rPr>
              <a:t>k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- speed of the object in </a:t>
            </a:r>
            <a:r>
              <a:rPr b="1" lang="en-US" sz="4000" spc="-1" strike="noStrike">
                <a:solidFill>
                  <a:srgbClr val="ff99ff"/>
                </a:solidFill>
                <a:latin typeface="Times New Roman"/>
              </a:rPr>
              <a:t>m/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KE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- the kinetic energy in </a:t>
            </a:r>
            <a:r>
              <a:rPr b="1" lang="en-US" sz="4000" spc="-1" strike="noStrike">
                <a:solidFill>
                  <a:srgbClr val="ff99ff"/>
                </a:solidFill>
                <a:latin typeface="Times New Roman"/>
              </a:rPr>
              <a:t>J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330120" y="507960"/>
            <a:ext cx="8559720" cy="2006640"/>
          </a:xfrm>
          <a:prstGeom prst="rect">
            <a:avLst/>
          </a:prstGeom>
          <a:solidFill>
            <a:srgbClr val="00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1218960" y="471600"/>
            <a:ext cx="66438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00"/>
                </a:solidFill>
                <a:latin typeface="Arial Black"/>
              </a:rPr>
              <a:t>Work-Energy Theore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560520" y="1295280"/>
            <a:ext cx="7945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he net work done on an object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qual to its change in kinetic 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952560" y="3962520"/>
            <a:ext cx="7315200" cy="16002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6"/>
              <p:cNvSpPr txBox="1"/>
              <p:nvPr/>
            </p:nvSpPr>
            <p:spPr>
              <a:xfrm>
                <a:off x="1093680" y="4065480"/>
                <a:ext cx="698184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net</m:t>
                    </m:r>
                    <m:r>
                      <m:t xml:space="preserve">=</m:t>
                    </m:r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KE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98-06-10T01:42:40Z</dcterms:created>
  <dc:creator>Bryan</dc:creator>
  <dc:description/>
  <dc:language>en-US</dc:language>
  <cp:lastModifiedBy>jluckey</cp:lastModifiedBy>
  <cp:lastPrinted>1998-08-05T01:28:34Z</cp:lastPrinted>
  <dcterms:modified xsi:type="dcterms:W3CDTF">2011-02-21T01:07:31Z</dcterms:modified>
  <cp:revision>34</cp:revision>
  <dc:subject/>
  <dc:title>No Slide Title</dc:title>
</cp:coreProperties>
</file>